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FC4-5220-4282-A39F-C1D86374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227-041B-4E1D-A605-BBE75549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2FB-A6B5-4873-B319-FD8CBBD7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FA7-8D95-40D2-B77A-82D463BE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22E-9D3B-4751-9BEC-8C145B1D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B92-31B5-4E2B-B935-E496D5EE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DE3-1EDC-43B3-9F6E-AF06D48B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E5D-31E3-4848-A207-2CA609D7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DEE-8943-4BDB-85A0-E111BEB1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86B-51B6-4721-A66B-F390763B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5D7-BD08-4AF9-9BDC-5FEA991F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2CB-7742-48F6-AFE7-EDCAA541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21B5-54EA-4F8B-B2C9-5DB88CF57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ot re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341360"/>
            <a:ext cx="6400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as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y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s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asmin’s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plot in 10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n 5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 Shifty and Yasmi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5:47:04Z</dcterms:created>
  <dc:creator>maninder singh</dc:creator>
  <dc:description/>
  <dc:language>en-US</dc:language>
  <cp:lastModifiedBy>maninder singh</cp:lastModifiedBy>
  <dcterms:modified xsi:type="dcterms:W3CDTF">2010-11-04T15:50:52Z</dcterms:modified>
  <cp:revision>3</cp:revision>
  <dc:subject/>
  <dc:title>Slide 1</dc:title>
</cp:coreProperties>
</file>